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74A-EB8A-4871-AAD9-B25D941C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01-19C9-4103-8D0C-0DFBADAF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119-2BFE-4059-B055-8BF633E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E60-7D68-46CE-BAF0-642D8C85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E408-6F43-4FE4-8941-CB28B1DB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D6E-3ECE-4D58-AFD3-2A90B4AA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8951-A310-4A1F-80F3-AFCF0944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EB9-AC90-48C6-B736-F0E2C5C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A37-5630-42C4-938E-006E8291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C18-D211-41E2-B31C-44E61C6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C76-DE09-4D75-B252-B32DE6D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4A5-CAB9-4DAB-B3BD-3DE2E5A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FF0-29A2-44DF-9442-B3FF043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DE8-0084-4F49-9EF1-9897F3F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6E2A-D52B-4E44-83B1-510E69C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51EE-D5C3-4DB4-9201-739F90F5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F373-75AD-4169-B245-AC30A82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5E8-A15D-48BE-919B-D0FB18C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A52-AFD9-466F-AA12-F0C0CB31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E28-5A21-46D6-8870-82F8465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3A4-F21C-40AF-B61C-CE3F6C4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AD6-7F81-40C9-99E2-77848BF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A7C-697D-4AC2-A2D1-4C18E22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C2E-11F5-4D47-97F2-5469BE50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6EC-034A-4BE2-8F53-DD758D9B6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1249-F63F-42CC-81C0-AFEBE49520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ffff"/>
                </a:solidFill>
                <a:latin typeface="Tahoma"/>
              </a:rPr>
              <a:t>Thursday, December 3rd</a:t>
            </a:r>
            <a:endParaRPr b="0" lang="en-US" sz="4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olve this equ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2Sinx – 1 = 0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Tahoma"/>
              </a:rPr>
              <a:t>Simplifying and Solving Trig Equations</a:t>
            </a:r>
            <a:endParaRPr b="0" lang="en-US" sz="6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You will now need the unit circle (paper #1) and the trig identities (paper #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.  Sec x Cot 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2.  Cosx + Sinx Tanx =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3.  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= Sin 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4.  2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x – Sin x – 1 = 0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mework: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Page 400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#25,27,29,39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2895480"/>
            <a:ext cx="71625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 like terms on one side (equal to zero) then factor a GC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. Same as 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t everything on one side (equal to zero) then factor the trinom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9.  Either turn sec into tan or tan into sec then sol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(pg 400 #11,13,15,17,19,21,23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me things to remember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aking the square root of both sides, you must include the positive and negative roots of th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iority is to get all the trig function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o simplify the expression so that you are only dealing with one trig expression (i.e. convert sin/cos to t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use the zero product property, your equation must equal zero! This is important in quadratic (squared)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Tahoma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07Z</dcterms:created>
  <dc:creator>jnewman</dc:creator>
  <dc:description/>
  <dc:language>en-US</dc:language>
  <cp:lastModifiedBy>abeason</cp:lastModifiedBy>
  <dcterms:modified xsi:type="dcterms:W3CDTF">2009-12-03T13:22:26Z</dcterms:modified>
  <cp:revision>12</cp:revision>
  <dc:subject/>
  <dc:title>Lesson 5.3 part three</dc:title>
</cp:coreProperties>
</file>